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gif" ContentType="image/gi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3161-2D0B-4AE8-AEF0-C5D6B1113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BCFB-10C1-4CFE-95F9-D7D401A70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59FD-3A61-44EA-828A-CEE3BDE3D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656E-65BD-4D63-8994-67B821802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BA6D-AC38-4F5C-B5C1-579E48897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2F31-2E27-4661-A668-163A72250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C24F-CE03-4D65-A2F3-6D86761D1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339C-095E-49BD-8D97-C4B13CFCE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0F2C-5C8D-41C4-8507-3AAAA1B34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CE16-63E1-4DFF-90D1-350E6BF0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BA2F-4024-4EAD-AF3D-E089495F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CFEA-0FAB-4096-BCDC-A2BEC775C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3CB29-FA8A-4F0D-9AB5-81FC3F1D5F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ecky.wav" TargetMode="External"/><Relationship Id="rId3" Type="http://schemas.microsoft.com/office/2007/relationships/media" Target="file:///tmp/home/.config/libreoffice/4/user/gallery/ecky.wav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gif"/><Relationship Id="rId6" Type="http://schemas.openxmlformats.org/officeDocument/2006/relationships/video" Target="file:///tmp/home/.config/libreoffice/4/user/gallery/Recorded%20Sound" TargetMode="External"/><Relationship Id="rId7" Type="http://schemas.microsoft.com/office/2007/relationships/media" Target="file:///tmp/home/.config/libreoffice/4/user/gallery/Recorded%20Sound" TargetMode="External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4267080" y="1981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62120" y="838080"/>
            <a:ext cx="7467480" cy="258912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llez, Viens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itre 5.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Passé Composé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5"/>
          <a:stretch/>
        </p:blipFill>
        <p:spPr>
          <a:xfrm>
            <a:off x="914400" y="5638680"/>
            <a:ext cx="1828800" cy="571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62120" y="4724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71800" y="548640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ladimir Script"/>
              </a:rPr>
              <a:t>Dimi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" action="ppaction://media"/>
          </p:cNvPr>
          <p:cNvPicPr/>
          <p:nvPr>
            <a:videoFile r:link="rId6"/>
            <p:extLst>
              <p:ext uri="{DAA4B4D4-6D71-4841-9C94-3DE7FCFB9230}">
                <p14:media r:link="rId7"/>
              </p:ext>
            </p:extLst>
          </p:nvPr>
        </p:nvPicPr>
        <p:blipFill>
          <a:blip r:embed="rId8"/>
          <a:stretch>
            <a:fillRect/>
          </a:stretch>
        </p:blipFill>
        <p:spPr>
          <a:xfrm>
            <a:off x="8229600" y="380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3809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309"/>
                            </p:stCondLst>
                            <p:childTnLst>
                              <p:par>
                                <p:cTn id="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1800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remember how to AVOI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5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, elle ,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s, 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8458200" y="457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10000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VO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52800" y="1676520"/>
            <a:ext cx="342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’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 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, elle , on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us av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us av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s, elles 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845820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11000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remember how to ÊT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5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, elle ,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s, 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153280" y="457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4000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ÊT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52800" y="1676520"/>
            <a:ext cx="342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 su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 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, elle , on 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us som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us ê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s, elles s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543800" y="380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10000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ÊTRE  with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ller, arriver, tom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52440" y="1676520"/>
            <a:ext cx="487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 suis all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 es arriv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e est tomb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us sommes all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us êtes arriv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es sont tomb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534520" y="304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" dur="13000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assé Compos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’ai écouté- I list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a  fini- He finis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 as répondu? -Did you answ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s avons fait les devoirs- We did the H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ctions that are done, complete, o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001000" y="457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" dur="23000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assé Compos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suis al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s sommes arriv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les sont tomb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8077320" y="304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22000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3276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ssé Composé h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981080"/>
            <a:ext cx="77724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ast tense in French- the passé composé- is composed of 2 par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most verbs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njugated form of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VOIR &amp; a participe pass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14400" y="3962520"/>
            <a:ext cx="7543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J’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ai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passé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 une journée épouvantab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Le prof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a rendu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 les exame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229600" y="533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50000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vo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295280" y="1295280"/>
          <a:ext cx="6400800" cy="1725480"/>
        </p:xfrm>
        <a:graphic>
          <a:graphicData uri="http://schemas.openxmlformats.org/drawingml/2006/table">
            <a:tbl>
              <a:tblPr/>
              <a:tblGrid>
                <a:gridCol w="1600200"/>
                <a:gridCol w="1600200"/>
                <a:gridCol w="1600200"/>
                <a:gridCol w="1600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v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ve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, el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s, el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>
            <a:off x="609480" y="320040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articipe Pass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048120" y="4267080"/>
          <a:ext cx="2971800" cy="1552680"/>
        </p:xfrm>
        <a:graphic>
          <a:graphicData uri="http://schemas.openxmlformats.org/drawingml/2006/table">
            <a:tbl>
              <a:tblPr/>
              <a:tblGrid>
                <a:gridCol w="1485720"/>
                <a:gridCol w="1486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5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772400" y="457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24000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articipes Passé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Irregul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57200" y="2209680"/>
          <a:ext cx="8229600" cy="30178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a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i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b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vo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eç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o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nd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r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êt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ét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8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534520" y="304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41000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articipes Passé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Irregul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2209680"/>
          <a:ext cx="8229600" cy="30178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a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i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b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vo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eç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o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nd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r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êt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ét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8610480" y="380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19000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ssé Composé with êt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2133720"/>
            <a:ext cx="74674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certain verbs, the passé composé is formed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njugated form of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être &amp; participe pass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k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l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je suis all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724280" y="411480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305920" y="533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14000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ssé Composé with êt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19320" y="2133720"/>
            <a:ext cx="74674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certain verbs, the passé composé is formed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njugated form of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être &amp; participe pass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Je suis allé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us sommes all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u es allé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ous êtes all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l est allé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ls sont all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lle est allé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lles sont all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724280" y="411480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10480" y="457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44000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ssé Composé with êtr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icipe passé agrees with sub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14400" y="2133720"/>
            <a:ext cx="75438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All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Arriver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Tomb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45820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19000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ssé Composé with êtr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icipe passé agrees with sub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14400" y="2133720"/>
            <a:ext cx="75438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être is used to form the passé composé, the participe passé becomes like an adjective and has to agree with the subject in gender &amp; number. This doesn’t happen when avoir is used to form the passé compos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l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st arrivé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ommes arrivé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le a parlé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us avons v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381880" y="152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52000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0T20:47:55Z</dcterms:created>
  <dc:creator>Phyllis</dc:creator>
  <dc:description/>
  <dc:language>en-US</dc:language>
  <cp:lastModifiedBy>Administrator</cp:lastModifiedBy>
  <dcterms:modified xsi:type="dcterms:W3CDTF">2011-01-31T17:36:54Z</dcterms:modified>
  <cp:revision>15</cp:revision>
  <dc:subject/>
  <dc:title>Slide 1</dc:title>
</cp:coreProperties>
</file>